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A49-36D1-4AD8-A11B-8862D1AE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FDA-C805-4AC3-A2D6-44EADD4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30BA-A138-49C1-99A2-8F4CCD75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2E9-1FC8-4CBB-AC85-BACFC38D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09C2-FE21-4EA9-9F20-8FE35E76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432-5C30-48CF-9E51-04252599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0E8A-E0A9-421A-A4B8-D4F3E709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A14C-2E79-48E9-B4A5-294EDDBD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CC76-97E8-4E76-98AD-02BA631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987-72E7-4D04-BE82-C7888D41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9873C-4FD1-43B8-8D68-1D7D034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A00-DA93-4CEF-8903-44D2C77D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A0E-E0BE-41D2-BC6A-7C367AE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0931-C440-4354-82A0-DAEF04D4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BCB9-BD8B-4092-8DAA-7CBF3AF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AE8E-458F-45B7-97E4-204CFE3D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9B5D-60BD-4FF8-809B-F9BC682D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F68-9BCF-45B6-8A76-C9AEF64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D0C-C5F4-4709-935A-3FEA9182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818-FAAD-4CD8-8254-AAD35BA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406-32A5-4F44-8641-094F8E2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812-D183-4524-A88E-C1908E70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CB9-4709-43A8-B59A-DDAB8171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BC4-14C0-4C22-B31C-6222F6C9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BC7F-824E-4BC5-80AC-D38F8D7021A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36200" y="1752120"/>
            <a:ext cx="5867640" cy="26672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38CC-81DA-4F43-8DDA-53DF87DFBBD7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2057400"/>
            <a:ext cx="7899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he Kind Of Friends We Used To Be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429000" y="4648320"/>
            <a:ext cx="15238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Isabel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19320" y="2743200"/>
            <a:ext cx="60832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Author: Frances O'Roark Dowell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: a girl who likes being different and isn’t that popula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 a cheerleader that is popular and is a girly gir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67440" y="1981080"/>
            <a:ext cx="27702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06960" y="60958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crowd.com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05120" y="838080"/>
            <a:ext cx="469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haracters/Description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2057400"/>
            <a:ext cx="73152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 becomes a popular cheerleader, so Kate and Marylin’s friendship is at risk.  They are trying to save their friendship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76720" y="762120"/>
            <a:ext cx="171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roblem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middle school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’s ho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arylin’s ho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76720" y="91440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ettings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 changes her look, she starts wearing weird boots and starts to play the guitar.  Marylin thinks it’s weird that a girl plays the guitar and wears ugly boo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66880" y="914400"/>
            <a:ext cx="3111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1st Main Even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Kate thinks she found a new best friend and Marylin still hangs out with the cheerleaders.  Their friendship grows more and more apart each time they try to be together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838080"/>
            <a:ext cx="3276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2nd Main Even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6553080" cy="21337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o be good friends, you have to respect each others difference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90920" y="99072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uthor's Messag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Secret Language of Girl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91120" y="1981080"/>
            <a:ext cx="292428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564520" y="6095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sread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1080" y="838080"/>
            <a:ext cx="453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Author's Bibliograph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43:15Z</dcterms:created>
  <dc:creator>D83  User</dc:creator>
  <dc:description/>
  <dc:language>en-US</dc:language>
  <cp:lastModifiedBy>D83  User</cp:lastModifiedBy>
  <dcterms:modified xsi:type="dcterms:W3CDTF">2010-12-06T15:32:01Z</dcterms:modified>
  <cp:revision>12</cp:revision>
  <dc:subject/>
  <dc:title>PowerPoint Presentation</dc:title>
</cp:coreProperties>
</file>